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EC0-3891-4773-83B7-3F9F0004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49D-4FAC-4CB4-ADAA-AA9A2F68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B3D-52D0-4143-990C-2267016E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38D-BC1C-4CBD-B395-AB5AEB0B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81F-E4C0-4E87-BD13-FC566998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EF9-A6D6-471A-AE69-50520813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AE7-9453-4AF8-92FC-3D65879A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366-2B08-41E8-9004-E0149056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D89-49C5-4189-B6D6-0E87CC3C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40F0-1874-449A-B57B-292A0BC0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B7C-074D-4A14-9DF4-516D7375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1CB-9115-4239-85FD-5B96C37B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8628-82C7-4CF6-B8F7-AF342EE5C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916920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73080"/>
            <a:ext cx="9242280" cy="6931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6019920"/>
            <a:ext cx="838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L.E. Meyer is a personification of vacan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73080"/>
            <a:ext cx="9242280" cy="6931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60199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When I move out of this appartment, they’ll put the name L.E. Meyer on my doorbell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1219320"/>
            <a:ext cx="17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heMix 6C-SemiBoldCaps"/>
              </a:rPr>
              <a:t>Inge Hoo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1219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heMix 6C-SemiBoldCaps"/>
              </a:rPr>
              <a:t>Pieter Wac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9169200" cy="6870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6019920"/>
            <a:ext cx="838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L.E. Meyer is someone you meet in the street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1219320"/>
            <a:ext cx="17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heMix 6C-SemiBoldCaps"/>
              </a:rPr>
              <a:t>Inge Hoo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1219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heMix 6C-SemiBoldCaps"/>
              </a:rPr>
              <a:t>Pieter Wac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6019920"/>
            <a:ext cx="838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… </a:t>
            </a: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a relativ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71600" y="1219320"/>
            <a:ext cx="17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heMix 6C-SemiBoldCaps"/>
              </a:rPr>
              <a:t>Inge Hoo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1219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heMix 6C-SemiBoldCaps"/>
              </a:rPr>
              <a:t>Pieter Wac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9169200" cy="6870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6019920"/>
            <a:ext cx="838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… </a:t>
            </a: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a colleagu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71600" y="1219320"/>
            <a:ext cx="17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heMix 6C-SemiBoldCaps"/>
              </a:rPr>
              <a:t>Inge Hoo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1219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heMix 6C-SemiBoldCaps"/>
              </a:rPr>
              <a:t>Pieter Wac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9169200" cy="6870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6019920"/>
            <a:ext cx="838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… </a:t>
            </a: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a friend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1600" y="1219320"/>
            <a:ext cx="17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heMix 6C-SemiBoldCaps"/>
              </a:rPr>
              <a:t>Inge Hoo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1219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heMix 6C-SemiBoldCaps"/>
              </a:rPr>
              <a:t>Pieter Wac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6019920"/>
            <a:ext cx="838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 Black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Arial Black"/>
              </a:rPr>
              <a:t>a neighb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71600" y="1219320"/>
            <a:ext cx="17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heMix 6C-SemiBoldCaps"/>
              </a:rPr>
              <a:t>Inge Hoo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1219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heMix 6C-SemiBoldCaps"/>
              </a:rPr>
              <a:t>Pieter Wac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9169200" cy="6870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6019920"/>
            <a:ext cx="838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 Black"/>
              </a:rPr>
              <a:t>I am L.E. Mey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9169200" cy="6870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371600" y="1219320"/>
            <a:ext cx="17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heMix 6C-SemiBoldCaps"/>
              </a:rPr>
              <a:t>Inge Hoo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1219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heMix 6C-SemiBoldCaps"/>
              </a:rPr>
              <a:t>Pieter Wac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152280"/>
            <a:ext cx="96012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916920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9169200" cy="6870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1600" y="1219320"/>
            <a:ext cx="17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heMix 6C-SemiBoldCaps"/>
              </a:rPr>
              <a:t>Inge Hoo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1219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heMix 6C-SemiBoldCaps"/>
              </a:rPr>
              <a:t>Pieter Wac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50840"/>
            <a:ext cx="9345600" cy="700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6019920"/>
            <a:ext cx="838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 Black"/>
              </a:rPr>
              <a:t>THERE ARE 59 L.E.MEYERS IN OUR BUI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9320" y="-36360"/>
            <a:ext cx="9242640" cy="693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6019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 Black"/>
              </a:rPr>
              <a:t>WE WONDERED WHO THIS PERSON COULD BE. SO OUR SEARCH BEGA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73080"/>
            <a:ext cx="9242280" cy="693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6019920"/>
            <a:ext cx="838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 Black"/>
              </a:rPr>
              <a:t>                 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L.E. Meyer is a fictional person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6019920"/>
            <a:ext cx="838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nl-NL" sz="2000" spc="-1" strike="noStrike">
                <a:solidFill>
                  <a:srgbClr val="000000"/>
                </a:solidFill>
                <a:latin typeface="Arial Black"/>
              </a:rPr>
              <a:t>Meyer just means that the appartment is empty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50840"/>
            <a:ext cx="9345600" cy="7008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6019920"/>
            <a:ext cx="838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Meyer? Meyer? Meyer? Nah, doesn’t ring a bell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19:28:20Z</dcterms:created>
  <dc:creator>Hans Venhuizen</dc:creator>
  <dc:description/>
  <dc:language>en-US</dc:language>
  <cp:lastModifiedBy>Francien Van Westrenen</cp:lastModifiedBy>
  <dcterms:modified xsi:type="dcterms:W3CDTF">2005-02-22T13:47:31Z</dcterms:modified>
  <cp:revision>21</cp:revision>
  <dc:subject/>
  <dc:title>No Slide Title</dc:title>
</cp:coreProperties>
</file>